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B8E-3AF4-4954-BC77-EE499E05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ED9-3C80-4555-9594-05CB254A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789F-9285-4E72-A3D1-CF25BE80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F2D-3535-466B-89BD-93B81591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11AE-C492-4C08-9A7C-F4A825F1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3B61-23AE-4034-9BDB-80F870CA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1767-C0D0-47BE-92DE-3722051B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19D8-558C-4C4B-A406-5C5F3F19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314B-B66D-4A16-BBCA-68CE0BF1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9E99-3169-4A82-85F9-A3F52A59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E9E0-D065-4644-9092-EE737752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416-D32B-4FD7-81FA-D36EDC6E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EC3F-9CF9-481F-8743-784A36AE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7E1F-A37F-4EF2-9BAD-B2F6E16F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64EE-CDDD-4C68-97EB-C66CC000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F201-505A-4B85-9DE3-53ECDA19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A143-B03F-497C-B68E-61F73BA1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3844-1D82-47EA-830C-0B772D14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D8D3-FFB7-4644-83A1-051162CF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2D51-4E2E-4089-8D30-EB57AF8D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3023-0902-4648-993A-108B35FA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283D-A762-4101-8A1E-826047B8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C6D-8F53-4CCC-AAA9-22DA65C7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E27-E884-4167-90DF-2DEFB8E6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CC4C-3F92-4871-9DB2-ADA218395F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3558-8D48-463E-A926-39A01494A3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ystems of Equations Re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 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981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2) Find the solution to the following system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x –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x + y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both equations. Put both equations in slope-intercept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x – 3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 = 2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using slope and y-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981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aph the equation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x –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 =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 =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 =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the lines inters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 solu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6060960" y="1523880"/>
            <a:ext cx="209232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1"/>
          <p:cNvSpPr/>
          <p:nvPr/>
        </p:nvSpPr>
        <p:spPr>
          <a:xfrm>
            <a:off x="533520" y="4979880"/>
            <a:ext cx="79246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tice that the slopes are the same with different y-intercepts. If you recognize this early, you don’t have to graph th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981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heck your answer!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lot to check…Just make sure you set up your equations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uble-checked it and I did it right…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3" descr=""/>
          <p:cNvPicPr/>
          <p:nvPr/>
        </p:nvPicPr>
        <p:blipFill>
          <a:blip r:embed="rId1"/>
          <a:stretch/>
        </p:blipFill>
        <p:spPr>
          <a:xfrm>
            <a:off x="5943600" y="1828800"/>
            <a:ext cx="2092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is the solution of this system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72"/>
          <p:cNvSpPr/>
          <p:nvPr/>
        </p:nvSpPr>
        <p:spPr>
          <a:xfrm>
            <a:off x="1523880" y="167652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– y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y = 6x 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3200400"/>
            <a:ext cx="5181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,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,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tely many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rShape1"/>
          <p:cNvSpPr/>
          <p:nvPr/>
        </p:nvSpPr>
        <p:spPr>
          <a:xfrm rot="10800000">
            <a:off x="223560" y="509580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3"/>
          <p:cNvSpPr/>
          <p:nvPr/>
        </p:nvSpPr>
        <p:spPr>
          <a:xfrm>
            <a:off x="534960" y="3638520"/>
            <a:ext cx="3995640" cy="1085760"/>
          </a:xfrm>
          <a:prstGeom prst="rightArrow">
            <a:avLst>
              <a:gd name="adj1" fmla="val 47111"/>
              <a:gd name="adj2" fmla="val 8874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4"/>
          <p:cNvSpPr/>
          <p:nvPr/>
        </p:nvSpPr>
        <p:spPr>
          <a:xfrm>
            <a:off x="534960" y="4705200"/>
            <a:ext cx="3995640" cy="1086120"/>
          </a:xfrm>
          <a:prstGeom prst="rightArrow">
            <a:avLst>
              <a:gd name="adj1" fmla="val 47111"/>
              <a:gd name="adj2" fmla="val 8871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lving a system of equations by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phing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's summarize!  There ar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 ste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solving a system using a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600440" y="3849840"/>
            <a:ext cx="3946680" cy="663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4600440" y="4737240"/>
            <a:ext cx="3946680" cy="10220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4600440" y="2611440"/>
            <a:ext cx="3948120" cy="968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533520" y="2552760"/>
            <a:ext cx="3995640" cy="1085760"/>
          </a:xfrm>
          <a:prstGeom prst="rightArrow">
            <a:avLst>
              <a:gd name="adj1" fmla="val 47111"/>
              <a:gd name="adj2" fmla="val 88747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68440" y="289728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tep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Graph both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568440" y="398304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tep 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Do the graphs inters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568440" y="504972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tep 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Check your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4600440" y="2592360"/>
            <a:ext cx="396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 using slope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ntercept or x- and y-intercepts. Be sure to use a ruler and graph pap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4600440" y="3830760"/>
            <a:ext cx="396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the solution!  LABEL the solu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4600440" y="4745160"/>
            <a:ext cx="396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titut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 into both equations to verify the point is a solution to both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imin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Content Placeholder 3" descr=""/>
          <p:cNvPicPr/>
          <p:nvPr/>
        </p:nvPicPr>
        <p:blipFill>
          <a:blip r:embed="rId1"/>
          <a:stretch/>
        </p:blipFill>
        <p:spPr>
          <a:xfrm>
            <a:off x="1236600" y="1600200"/>
            <a:ext cx="6670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imin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Content Placeholder 3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9246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imin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Content Placeholder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792504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imin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Content Placeholder 3" descr=""/>
          <p:cNvPicPr/>
          <p:nvPr/>
        </p:nvPicPr>
        <p:blipFill>
          <a:blip r:embed="rId1"/>
          <a:stretch/>
        </p:blipFill>
        <p:spPr>
          <a:xfrm>
            <a:off x="609480" y="1771560"/>
            <a:ext cx="754380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ystems of Inequali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Content Placeholder 3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237200" cy="2209680"/>
          </a:xfrm>
          <a:prstGeom prst="rect">
            <a:avLst/>
          </a:prstGeom>
          <a:ln w="0">
            <a:noFill/>
          </a:ln>
        </p:spPr>
      </p:pic>
      <p:sp>
        <p:nvSpPr>
          <p:cNvPr id="180" name="TextBox 4"/>
          <p:cNvSpPr/>
          <p:nvPr/>
        </p:nvSpPr>
        <p:spPr>
          <a:xfrm>
            <a:off x="533520" y="39625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member to solve for y.  Use our graphing calculator ap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4419720" y="2057400"/>
            <a:ext cx="37908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at is a system of equation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ystem of equations is when you have two or more equations using the same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lution to the system is the point that satisfi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equations. This point will be an ordered p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graphing, you will encounter three possi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tersecting Li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410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int where the lines intersect is you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lution of this graph is (1,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467080" cy="2400480"/>
          </a:xfrm>
          <a:prstGeom prst="rect">
            <a:avLst/>
          </a:prstGeom>
          <a:ln w="0">
            <a:noFill/>
          </a:ln>
        </p:spPr>
      </p:pic>
      <p:sp>
        <p:nvSpPr>
          <p:cNvPr id="98" name="Line 5"/>
          <p:cNvSpPr/>
          <p:nvPr/>
        </p:nvSpPr>
        <p:spPr>
          <a:xfrm>
            <a:off x="5715000" y="2257560"/>
            <a:ext cx="149544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"/>
          <p:cNvSpPr/>
          <p:nvPr/>
        </p:nvSpPr>
        <p:spPr>
          <a:xfrm>
            <a:off x="7267680" y="2732040"/>
            <a:ext cx="126720" cy="127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469280" y="25290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2" descr=""/>
          <p:cNvPicPr/>
          <p:nvPr/>
        </p:nvPicPr>
        <p:blipFill>
          <a:blip r:embed="rId1"/>
          <a:stretch/>
        </p:blipFill>
        <p:spPr>
          <a:xfrm>
            <a:off x="5762520" y="1828800"/>
            <a:ext cx="2467080" cy="1809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arallel Li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724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lines never intersec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lines never cross, there is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lines have the same slope with different y-interce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V="1">
            <a:off x="6172200" y="2743200"/>
            <a:ext cx="0" cy="5666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 flipV="1">
            <a:off x="6995880" y="2390760"/>
            <a:ext cx="14040" cy="6271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6172200" y="274320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7010280" y="2438280"/>
            <a:ext cx="4273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9"/>
          <p:cNvGraphicFramePr/>
          <p:nvPr/>
        </p:nvGraphicFramePr>
        <p:xfrm>
          <a:off x="5791320" y="3692520"/>
          <a:ext cx="2361960" cy="205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3692520"/>
                    <a:ext cx="236196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inciding Li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724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lines are the s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lines are on top of each other, there are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INITELY MANY SOLUTIONS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nciding lines have the same slope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-interce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9"/>
          <p:cNvGraphicFramePr/>
          <p:nvPr/>
        </p:nvGraphicFramePr>
        <p:xfrm>
          <a:off x="5715000" y="3809880"/>
          <a:ext cx="2362320" cy="14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809880"/>
                    <a:ext cx="236232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10" descr=""/>
          <p:cNvPicPr/>
          <p:nvPr/>
        </p:nvPicPr>
        <p:blipFill>
          <a:blip r:embed="rId3"/>
          <a:stretch/>
        </p:blipFill>
        <p:spPr>
          <a:xfrm>
            <a:off x="5638680" y="1752480"/>
            <a:ext cx="2467080" cy="1809720"/>
          </a:xfrm>
          <a:prstGeom prst="rect">
            <a:avLst/>
          </a:prstGeom>
          <a:ln w="0">
            <a:noFill/>
          </a:ln>
        </p:spPr>
      </p:pic>
      <p:sp>
        <p:nvSpPr>
          <p:cNvPr id="115" name="Line 11"/>
          <p:cNvSpPr/>
          <p:nvPr/>
        </p:nvSpPr>
        <p:spPr>
          <a:xfrm flipV="1">
            <a:off x="6340320" y="1904760"/>
            <a:ext cx="1051200" cy="152388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is the solution of the system graphed below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1571760" y="1523880"/>
            <a:ext cx="2466720" cy="1809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3657600"/>
            <a:ext cx="4876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, 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2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ely many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rShape1"/>
          <p:cNvSpPr/>
          <p:nvPr/>
        </p:nvSpPr>
        <p:spPr>
          <a:xfrm rot="10800000">
            <a:off x="253800" y="3787560"/>
            <a:ext cx="25380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981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1) Find the solution to the following system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y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- y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both equations. Put both equations in slope-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using slope and y-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33520" y="4038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y = -2x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876920" y="4038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y = x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981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aph the equation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the lines inters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2,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5259240" y="1793880"/>
            <a:ext cx="2467080" cy="2409840"/>
          </a:xfrm>
          <a:prstGeom prst="rect">
            <a:avLst/>
          </a:prstGeom>
          <a:ln w="0">
            <a:noFill/>
          </a:ln>
        </p:spPr>
      </p:pic>
      <p:sp>
        <p:nvSpPr>
          <p:cNvPr id="127" name="Oval 8"/>
          <p:cNvSpPr/>
          <p:nvPr/>
        </p:nvSpPr>
        <p:spPr>
          <a:xfrm>
            <a:off x="6019920" y="2085840"/>
            <a:ext cx="1015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6019920" y="3871800"/>
            <a:ext cx="1015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0"/>
          <p:cNvSpPr/>
          <p:nvPr/>
        </p:nvSpPr>
        <p:spPr>
          <a:xfrm>
            <a:off x="6846840" y="3276720"/>
            <a:ext cx="1015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 rot="3325800">
            <a:off x="5846040" y="22039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x + y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 rot="19418400">
            <a:off x="5411880" y="358740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– y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2"/>
          <a:stretch/>
        </p:blipFill>
        <p:spPr>
          <a:xfrm>
            <a:off x="1952640" y="1731960"/>
            <a:ext cx="193356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981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heck your answer!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check your answer, plug the point back into both equ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x + y = 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=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 - y =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=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5838840" y="1828800"/>
            <a:ext cx="2467080" cy="2409840"/>
            <a:chOff x="5838840" y="1828800"/>
            <a:chExt cx="2467080" cy="2409840"/>
          </a:xfrm>
        </p:grpSpPr>
        <p:pic>
          <p:nvPicPr>
            <p:cNvPr id="136" name="Picture 4" descr=""/>
            <p:cNvPicPr/>
            <p:nvPr/>
          </p:nvPicPr>
          <p:blipFill>
            <a:blip r:embed="rId1"/>
            <a:stretch/>
          </p:blipFill>
          <p:spPr>
            <a:xfrm>
              <a:off x="5838840" y="1828800"/>
              <a:ext cx="2467080" cy="24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5"/>
            <p:cNvSpPr/>
            <p:nvPr/>
          </p:nvSpPr>
          <p:spPr>
            <a:xfrm>
              <a:off x="6600960" y="2085840"/>
              <a:ext cx="101520" cy="9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"/>
            <p:cNvSpPr/>
            <p:nvPr/>
          </p:nvSpPr>
          <p:spPr>
            <a:xfrm>
              <a:off x="6600960" y="3871800"/>
              <a:ext cx="101520" cy="9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>
              <a:off x="7427880" y="3276720"/>
              <a:ext cx="101520" cy="9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CorShape1"/>
          <p:cNvSpPr/>
          <p:nvPr/>
        </p:nvSpPr>
        <p:spPr>
          <a:xfrm rot="10800000">
            <a:off x="3200040" y="412740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orShape1"/>
          <p:cNvSpPr/>
          <p:nvPr/>
        </p:nvSpPr>
        <p:spPr>
          <a:xfrm rot="10800000">
            <a:off x="3124080" y="5410080"/>
            <a:ext cx="29232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4114080" y="5181480"/>
            <a:ext cx="40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ice job…let’s try anot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15:07:53Z</dcterms:created>
  <dc:creator>Skip Tyler</dc:creator>
  <dc:description/>
  <dc:language>en-US</dc:language>
  <cp:lastModifiedBy>Cynthia</cp:lastModifiedBy>
  <dcterms:modified xsi:type="dcterms:W3CDTF">2015-03-01T20:43:45Z</dcterms:modified>
  <cp:revision>37</cp:revision>
  <dc:subject/>
  <dc:title>Solve Systems by Graphing</dc:title>
</cp:coreProperties>
</file>